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gif" ContentType="image/gif"/>
  <Override PartName="/ppt/media/image14.gif" ContentType="image/gif"/>
  <Override PartName="/ppt/media/image2.gif" ContentType="image/gif"/>
  <Override PartName="/ppt/media/image3.png" ContentType="image/png"/>
  <Override PartName="/ppt/media/image1.jpeg" ContentType="image/jpeg"/>
  <Override PartName="/ppt/media/image4.gif" ContentType="image/gif"/>
  <Override PartName="/ppt/media/image5.gif" ContentType="image/gif"/>
  <Override PartName="/ppt/media/image10.gif" ContentType="image/gif"/>
  <Override PartName="/ppt/media/image6.gif" ContentType="image/gif"/>
  <Override PartName="/ppt/media/image11.gif" ContentType="image/gif"/>
  <Override PartName="/ppt/media/image7.gif" ContentType="image/gif"/>
  <Override PartName="/ppt/media/image12.gif" ContentType="image/gif"/>
  <Override PartName="/ppt/media/image8.gif" ContentType="image/gif"/>
  <Override PartName="/ppt/media/image13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531A2-32ED-4481-86FA-E641D3514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5B0D9-82E8-4CCE-9471-B149BD436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8A36D-AC48-4376-9225-FB136248F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98CE1-BA25-4BBC-900C-C19C25D8C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DCD27-43B5-4CB6-8F38-E83F1A212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60F62-CFBF-4433-9494-27999A767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F7F3D-226E-4206-BCC1-65D3AD0CB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9D06F-E675-438E-8901-FFFF09537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7B336-5A5F-477C-A6B8-4B44A8AC3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DD2BE-88C0-4E1A-B229-C62B7B0C0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85DEE-644F-4C06-B125-F935D6FD8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FC2A3-1960-4D09-ABFC-8F2CA442B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C8128-681E-4AAD-BD55-ED83403CD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8B1A8-D809-4708-8723-B4DDADF61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21E4A-B5EC-4CD0-BA1F-60A1CF417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FF45E-9344-4A98-A116-CDD7A2CCB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3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4144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5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3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4144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CE6DE-93C2-42C8-B7E0-EF3CCC290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B5DC0-8B62-44EE-952D-4E0B6389C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DB549-272D-43B8-96A7-D65262F83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D11D2-2BCF-43AF-A9FF-2581BFCC3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8AB6B-A77C-40BA-918D-C0C0D620D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E1AB7-5EBD-416E-B2B6-481B10DE4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E5254-F4F8-45A7-898C-E25009CCD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E004D-5F5A-4C83-86A9-3C26C2899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35480" indent="-282960"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1131480" indent="-226080">
              <a:buClr>
                <a:srgbClr val="66cc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584000" indent="-226080">
              <a:buClr>
                <a:srgbClr val="80ff00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2036520" indent="-226080">
              <a:buClr>
                <a:srgbClr val="ffcc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2036520" indent="-226080">
              <a:buClr>
                <a:srgbClr val="ffff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2036520" indent="-226080">
              <a:buClr>
                <a:srgbClr val="ffff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7720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C5414-98A0-4F27-BA5A-F9B6647F35E8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7720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9EE3C-F3E4-4281-92F4-83CBEE33CFD8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image" Target="../media/image14.gi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gif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Welcome Mom and Dad!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647960" y="2590920"/>
            <a:ext cx="380988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Mr. Lucci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Fourth Grade Spring Conference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March 18, 2009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5410080" y="4952880"/>
            <a:ext cx="1524240" cy="7351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685440" y="2590920"/>
            <a:ext cx="3809880" cy="35049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289512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Thank you for coming!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Any questions?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984480" y="2873520"/>
            <a:ext cx="1173240" cy="11109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200400" y="4724280"/>
            <a:ext cx="1981080" cy="115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294920"/>
            <a:ext cx="84582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Fourth Grade in Review:  Reading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2209680"/>
            <a:ext cx="80010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ading skills I have worked on: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cabulary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Parts of speech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xtended response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My favorite books I’ve read in class: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 Series of Unfortunate Event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ideway Stories From Wayside schoo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e Report Card 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391520" y="4114800"/>
            <a:ext cx="1226880" cy="14922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5105520" y="2819520"/>
            <a:ext cx="1371600" cy="120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Fourth Grade in Review: Math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19320" y="2437920"/>
            <a:ext cx="7162560" cy="3505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Math skills that I have worked on: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Multiplication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Decimals and graphs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Fractions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Area and Perimeter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xtended response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My favorite activity to do in math: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White boards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Around the world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Multiplication time test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5715000" y="3124080"/>
            <a:ext cx="1531800" cy="12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371240"/>
            <a:ext cx="86104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Fourth Grade in Review: 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Science and Social Studies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680" y="2819520"/>
            <a:ext cx="7391520" cy="4038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cience: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Aquariums and terrariums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Making circuits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Mad science 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ocial Studies: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Maps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gions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ocial scientists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5105520" y="2895480"/>
            <a:ext cx="160020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371240"/>
            <a:ext cx="86104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Fourth Grade in Review:  Writing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66680" y="2514600"/>
            <a:ext cx="7391520" cy="4038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reative writing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omic strip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Fall writing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Journal topic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pecial person letter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5638680" y="2590920"/>
            <a:ext cx="2227320" cy="201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560" y="1142640"/>
            <a:ext cx="88390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My favorite experiences: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8320" y="2057040"/>
            <a:ext cx="4495680" cy="3505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Underwriters Laboratorie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Making ecosystems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lassroom partie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685800" y="2895480"/>
            <a:ext cx="3809880" cy="28195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371240"/>
            <a:ext cx="86104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Things I’m good at: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6680" y="2514600"/>
            <a:ext cx="7391520" cy="4038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ading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Writing storie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cience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Math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3" name=""/>
          <p:cNvSpPr/>
          <p:nvPr/>
        </p:nvSpPr>
        <p:spPr>
          <a:xfrm>
            <a:off x="1219320" y="2362320"/>
            <a:ext cx="716256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4724280" y="2590920"/>
            <a:ext cx="243864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1447560"/>
            <a:ext cx="86104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Things I need to work on: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6" name=""/>
          <p:cNvSpPr/>
          <p:nvPr/>
        </p:nvSpPr>
        <p:spPr>
          <a:xfrm>
            <a:off x="1143000" y="2362320"/>
            <a:ext cx="7391520" cy="4038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pelling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ocial stud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Not talking a lo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urs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4495680" y="2743200"/>
            <a:ext cx="3048120" cy="196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137124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My Goals for the next three months: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2514600"/>
            <a:ext cx="7391520" cy="4038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 will talk at the appropriate times by focusing on my work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 will get better at cursive by practicing it when I write papers for school.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 will do division better by practicing it at home every night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029200" y="4495680"/>
            <a:ext cx="136224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entr" presetID="21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3)" transition="in">
                                      <p:cBhvr additive="repl">
                                        <p:cTn id="6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6T17:13:09Z</dcterms:created>
  <dc:creator>NSSD112</dc:creator>
  <dc:description/>
  <dc:language>en-US</dc:language>
  <cp:lastModifiedBy>nssd112</cp:lastModifiedBy>
  <dcterms:modified xsi:type="dcterms:W3CDTF">2009-06-04T15:11:12Z</dcterms:modified>
  <cp:revision>33</cp:revision>
  <dc:subject/>
  <dc:title>Welcome Mom and Dad!</dc:title>
</cp:coreProperties>
</file>